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380-8CF1-490C-8870-B03CCF3A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70D-C76D-47E6-9A7B-0E24680D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569-291F-4784-BC7D-C2C3066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730-3420-4A7D-9AAD-2DFBD67B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A5C-C8FD-4C0B-ABB4-E3A3CC9D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2E7-ACCC-457A-8B34-1D5EA4A7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1D7-FB5D-4471-852F-17F2621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AA7-8066-4C68-9B65-3035025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297-C46C-4BB8-95BA-51D97B9C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0CD-DA2F-46A3-811F-54648ACA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C74-CBF4-4C67-AEF7-51EE76A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EC1-3246-4CBE-B0B6-D10C9A76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C9AF-5793-4B62-BE3F-119CADE036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814920" y="1628640"/>
            <a:ext cx="757080" cy="755640"/>
            <a:chOff x="381492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81492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4740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16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Oliver Mochmann</cp:lastModifiedBy>
  <dcterms:modified xsi:type="dcterms:W3CDTF">2005-07-08T16:35:00Z</dcterms:modified>
  <cp:revision>17</cp:revision>
  <dc:subject/>
  <dc:title>Folie 1</dc:title>
</cp:coreProperties>
</file>